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259-106C-467E-AC78-B7D8229EF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DAC-0BE6-44E1-9B29-CDB10F8F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5998-A495-4964-98BC-E355735F3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44C6-9548-4AC1-AC97-C8885B15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45F9-465B-4D39-9685-0521999FB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E17C-5B16-4908-A479-7F17D0F66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D230-738B-4125-A0C1-E72070EB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A1B1-1C9C-49EF-9A78-EDC26C3E0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CB4-17E9-480B-A778-0BFC412ED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7C6-AC97-46E8-AF36-3667C211DD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FB3-A6AA-468A-ACC1-3F0C0455B1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3E4-32CE-48C7-8B06-AF8A036CF5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3B4-3724-4CCF-9513-37F448A24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6BA-0100-4B18-A495-91D80708F7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009-4C8A-463A-BA39-AB6775BDF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12CA-4DD2-4E4C-9530-81C5852CC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1DA-EFE8-429B-806F-7712F5DE6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807-709A-4B41-AC54-2241C42E7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8F2-EFE4-4466-B0DC-C5BE0A9708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9F8-6D7D-4995-895B-B57E39BCA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582-BB8D-476D-8612-57965075B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B11C-1D37-4499-8530-D02CB2D16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9B8D-63E3-4930-9DAC-7CBF33B58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0555-6EC0-4116-8BCD-AE105ADA0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72B2-7464-4487-A263-A57C7822B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5FE3-FC3B-4063-BB5B-F160A8A1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B753-2EFB-4640-AB0B-C08B376D2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14C6-E9EE-45D1-9285-FA7872AFB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A5C-5C8A-4C57-A78F-7957EE5480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74F-AFC7-46F9-B049-FDEC520C72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898-F56A-4EBB-A1CF-E8AB7F510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MPETITION I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VERYWHERE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ing on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for Competi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for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4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th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F65-BF45-4C4A-B619-96C4C4DA92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Views on Competition 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businesses that have products appealing to their selected market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business competing in the market is a compet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6E6-15C5-4DF8-8DBF-096C449345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based on where they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(L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ip Code (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dea that people who live in the same area have similar needs and wa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ge, gender, race, income, educational lev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F168-4B33-4AB0-A4CE-B5FFC62637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1019160" y="1865160"/>
            <a:ext cx="7086600" cy="4329360"/>
            <a:chOff x="1019160" y="1865160"/>
            <a:chExt cx="7086600" cy="4329360"/>
          </a:xfrm>
        </p:grpSpPr>
        <p:pic>
          <p:nvPicPr>
            <p:cNvPr id="156" name="Picture 16" descr=""/>
            <p:cNvPicPr/>
            <p:nvPr/>
          </p:nvPicPr>
          <p:blipFill>
            <a:blip r:embed="rId1"/>
            <a:srcRect l="0" t="0" r="3704" b="1424"/>
            <a:stretch/>
          </p:blipFill>
          <p:spPr>
            <a:xfrm>
              <a:off x="1019160" y="1865160"/>
              <a:ext cx="7086600" cy="43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22"/>
            <p:cNvSpPr/>
            <p:nvPr/>
          </p:nvSpPr>
          <p:spPr>
            <a:xfrm>
              <a:off x="1938240" y="2909880"/>
              <a:ext cx="601992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mographic Characteristics of Education and Incom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2"/>
          <a:srcRect l="77627" t="0" r="3688" b="1375"/>
          <a:stretch/>
        </p:blipFill>
        <p:spPr>
          <a:xfrm>
            <a:off x="6732720" y="1863720"/>
            <a:ext cx="1374480" cy="433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rcRect l="61345" t="0" r="22326" b="1375"/>
          <a:stretch/>
        </p:blipFill>
        <p:spPr>
          <a:xfrm>
            <a:off x="553392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4"/>
          <a:srcRect l="44960" t="0" r="38711" b="1375"/>
          <a:stretch/>
        </p:blipFill>
        <p:spPr>
          <a:xfrm>
            <a:off x="432756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5"/>
          <a:srcRect l="28880" t="0" r="54894" b="1375"/>
          <a:stretch/>
        </p:blipFill>
        <p:spPr>
          <a:xfrm>
            <a:off x="3144960" y="1863720"/>
            <a:ext cx="1193760" cy="433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6"/>
          <a:srcRect l="12598" t="0" r="70970" b="1375"/>
          <a:stretch/>
        </p:blipFill>
        <p:spPr>
          <a:xfrm>
            <a:off x="1946160" y="1863720"/>
            <a:ext cx="120996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A4E-9A05-4B6D-B945-649E463EB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sychograph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interests/va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style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Stores, Coffee Shops, et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88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Product Usage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requency/quanti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el St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siness/Final Consum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0947-22F1-47A9-835D-6840D03E5D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nefit Expec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expected from use of a particular product or servi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 Se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34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consumers into groups depending on benefits they expect or require from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EE98-E9FE-4B10-A983-9767942142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and Analyz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Opportun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an identified market with excellent potential based on careful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Possibl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Marke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B16-9CEC-4C52-8FC0-E48BFECB98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Possible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arket or product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basis for segmenting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o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egments that exist in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et information to choose the markets that present greatest &amp; least amt of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EB2C-3460-4A1D-BE25-5C1737DC0F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termining 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the product or service and other mi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vailable to make th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mmunicate with and distribute product to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B65-C2BD-43DD-BAB8-45CEFE4032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tent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total revenue that can be obtained from the market 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93E0-05CD-4140-AC8C-FF0AE7110A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h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portion of the total market potential that each company expects to get in relation to its competi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2A11-8A20-4702-A5D6-4CD5A16B9C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029200" y="609480"/>
            <a:ext cx="363204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 rot="16200000">
            <a:off x="-897480" y="473544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rtesy of PJ Madison’s. Us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410080" y="1371600"/>
            <a:ext cx="358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ways is PJ Madison’s trying to suggest its ice cream is different and better than other bran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consumers do you believe will be attracted to the advertis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view, is the ad effective at encouraging customers to try PJ Madison’s ice cream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1371" r="1815" b="4107"/>
          <a:stretch/>
        </p:blipFill>
        <p:spPr>
          <a:xfrm>
            <a:off x="0" y="11160"/>
            <a:ext cx="52578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2EDE-A397-4104-B282-85B3057F5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OSITIONING FOR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TIVE ADVANTAG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ain the various bases for positioning a product to distinguish it from the competition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cribe the three common positioning strate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89E-3656-453D-A357-A851F76A3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refers to the unique image of a product or service in a consumer’s mind relative to similar competitive offer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D084-990B-48D7-8221-975F223664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highlight product fe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pa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tening fea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ce &amp; Qu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 = quality (Mercedes B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 = value (Wal-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78C-8622-456B-BA08-E0C99A2C3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r Ap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Unique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&amp; Hammer – Baking or Deodoriz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ype of Person(ali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 Apparel – Professional 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Generation – Young Activ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ney – Family Oriented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569-BC6F-400C-843F-8641355C72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Class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trak - service/schedule of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8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k - ‘the other white meat’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poultry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ompared to compet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s - ranked next to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Up - the ‘uncola’ comparing to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0363-F9A2-4B4E-B64A-6842AD226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685800" y="2286000"/>
            <a:ext cx="8001000" cy="60948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685800" y="356544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685800" y="484488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685800" y="292572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685800" y="4205160"/>
            <a:ext cx="8001000" cy="60984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685800" y="548640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05120"/>
          <a:ext cx="8001000" cy="42066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297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s quickly and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 fresh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an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rice, goo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price for highest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r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as pre-wash on tough s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for hand-washing del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maker’s reliable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generation’s disco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Olympic ath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professional laund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out dirt Product B ca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ler on clothing than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s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98A9-ECD1-42F7-A2E6-384250228C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ing strategies outli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a company is going to present its product to the 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will compete in the marketplace with other businesses offering similar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1BC5-E649-46A3-879F-E96E129CA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Percep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re the images consumers have of competing goods and services in the market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al to desires and perceptions of their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143-AAFC-4C82-ABAF-FBED938E0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erception they have of company and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lly - they perceive the product as superior to competitors’ 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marketed att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a Wars – Promotional batt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364-722C-4AC8-B2CD-B871042D4F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atch changes in B.E. that may affect the position of their produ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Enter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Publ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ECD-38D2-4D15-BE28-0973F3804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FOCUSING 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markets can be segmented by geographic location, demographic characteristics, psychographics, product usage, and benefits deriv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valuate market potential and calculate market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1A2-5CF0-4CEE-9C36-D55366631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NG FOR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direct vs. indirect competition and price vs. non-price compet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benefits of competition to consum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49C0-91A7-46F2-9EFF-7C56D2C94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for Position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es must be able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and reach a market segment that has a need for thei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itself effectively against its competito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9AC-F0C6-4357-B444-DC2A32DCD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competition in a market with businesses that offer the same type of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s competing for traveling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 Apparel (Nike, Adidas, Reeb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(McDonalds vs. B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res (Warrington vs. Regal B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Rentals  (Red Box vs. On-Dema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4592-C387-48FE-BBB9-2710EC1A35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ng with companies offering products that are not in the same product category but that satisfy similar customer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s vs. Professional Wear (Nike vs. G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vs. 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ers vs. Video Rentals vs. Ice Skating vs. all other forms of entertainment cho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427-BB70-47C5-93D8-B318441F27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ce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Rivalry among businesses based on price / va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cery 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urant Spec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f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A21-EBA3-4EFA-9F54-85411CC72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-Price Compet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when businesses emphasize factors of  marketing mix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han pr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2CCC-067A-4410-AC9C-CF64AA3CAB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Reasons for </a:t>
            </a:r>
            <a:br>
              <a:rPr sz="3800"/>
            </a:b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Non-Price Competition</a:t>
            </a:r>
            <a:endParaRPr b="1" lang="en-US" sz="3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not have control of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 Companies (Gov. Regulate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Easy Application, Personalized Services, Prompt Claims Service, etc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might be higher than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Business vs. Large (Wal-Ma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Individualized attention, delivery, set-up, after sale service, business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88E-40B1-4D4E-9086-40A3DE6598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Consume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receives the best price for products.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Most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heapest Price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encourage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prov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products with the addition of unique features and benefit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tand Out, Be Distin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B6CF-ACE4-4A34-A571-F015EB7FE7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es are always looking for new and improved products to match their competi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offers consumers the benefit of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de varie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products from which to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BC8-B21F-49F6-89C4-69412C54F8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LEARNING ABOUT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H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the types of information businesses need to know about their competit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kinds of activities businesses engage in to gain marketing intellig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D24F-2ED2-4DCE-9C63-B5787AED2D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es must direct their efforts and resources toward marketing strategies which compete f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Doll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Sh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CC8-EC1B-492A-A6E7-617C187FD1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c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competitors planning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raising/lowering pr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adding new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o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7EE-94EE-441D-A85D-4CD2CBA74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ributio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/Location conven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quant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s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le online &amp; in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CDD4-9FF1-4AB6-A7AB-0E3BEB8147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/Servi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oducts being off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to anticipate new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ually results in at least a temporary shift in purchases during the introductio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B6C-DE01-4BD0-AC36-FE04FD9278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onal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d quickly if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bs consumer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-timed can have direct impact on business sales &amp;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285-5B4A-4AB0-A53F-34180B803F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etitor’s Market 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the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their strengths / weakn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ble to anticipate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e for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352A-B019-4F19-810E-E769603448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Intelli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rocess of gaining competitive marketing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DE2-46A4-4B31-916F-2D62C1E08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people &amp; other employ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ors’ product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s, research reports, and public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&amp; trade 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CFD-90C1-4DC1-A390-48BD0B6601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s &amp; customer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de sh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ions where companies associated with an industry gather to showcase their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9B73-8A8F-41E8-B6D2-9C4476AC2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g companies - staff responsible for working with marketing intellig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strengths/weaknesses of key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 their current marketing strateg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ir future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401-3378-496D-AB94-EF568BECF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Un-Ethical Behavio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hind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ing information under false pretenses or misleading inf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ing restricted d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mpster diving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employees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04B-3055-4331-8933-3D29C5437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a group of individuals or organizations within a larger market that share one or more important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3DC-0AA0-4AB6-B7F0-BCA84800E6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Protecting Yourself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nies should clearly communicate their expectations about confidentiality of information to employees, suppliers and custom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guidelines in ‘Code of Ethics’ about sharing and using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FB1B-F42C-45F6-B2DC-756C634072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a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rocess of dividing a large group of consumers into subgroups based on specific characteristics and common n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722-2154-4E49-A3F4-BA2A840699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usinesses are unwilling to spend extra time and $$ on market segm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they use Mass Mark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irects company’s marketing mix at a large heterogeneous group of consum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3D3-6623-461F-B9E5-E5DF6838B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likely to meet the needs of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more time to gather and analyze the information to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0071-3B7C-4EAD-9944-E8F39E5937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Ada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otential sales volume and efficiencies of scale in larger mark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 more difficult because you are trying to appeal to divers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10:53Z</dcterms:created>
  <dc:creator/>
  <dc:description/>
  <dc:language>en-US</dc:language>
  <cp:lastModifiedBy>jsundlin</cp:lastModifiedBy>
  <dcterms:modified xsi:type="dcterms:W3CDTF">2012-01-09T16:42:55Z</dcterms:modified>
  <cp:revision>50</cp:revision>
  <dc:subject/>
  <dc:title>COMPETITION IS  EVERYWHERE</dc:title>
</cp:coreProperties>
</file>